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132-1255-469E-900A-C571CF47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BAF-D13E-4629-80E3-8C6D8609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AD2-4244-497F-9E05-94E80F38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B78-EF94-4B24-B493-33CC51B9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326-338C-432E-A0BE-E64F93E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296-A544-4C57-BAE4-5524D18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8C9-0F96-4B4B-A193-AA220E19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E13-FF7E-4FBE-AB6B-3E77992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337-D19D-4D02-ACA6-A71BE710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8EA-D655-456A-B026-FB85AD5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B67-0C91-4BDF-AEAB-2BD3205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577-9222-41E7-996C-E9E53560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B18E-0430-4A5B-AE45-289A9F25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iplina: Tópicos Especiais de Linguística Aplicada: A Formação do Formador e do professor de Língua estrange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ente: Prof.Dra. Maria Helena Vieira Abrah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ente: Selma M. Abdalla Dias Bar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e Práticas diferen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Training: treinamento de             habilidades, como por exemplo, escrever legivelmente no quadro ou saber falar para uma sala cheia de crianças e que eles possam ouvir tudo que ele dis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Education: Conhecimento, ou seja, saber sobre o sistema de artigos em Inglê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ndimento (understanding): Entender porque um adolescente pode achar difícil em se desempenhar da melhor forma possível numa aula de inglê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ajuda a usar nossas habilidades e conhecimentos apropria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ajuda a sentir que nós sabemos o que estamos fazendo e por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as três no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acordo com os autores na prática todas as três noções são relevantes todo o tempo e em todo estágio na carreira  do professor, mas deve haver um equilíbrio entre as três no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acreditam que a distinção dessas fases é muito importante para a elaboração de programas de formção de professores e, consequentemente, para a elaboração satisfatória de programas de pesqu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a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saber distinguir em que fase o professor es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 qual das três noções ele está mais precisando naquele momento específ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nte distinguir:  Preservice(nova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vice (experi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sar e/ou mapear suas competênc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eando um Programa de Pesqui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utores afirmam que seria um prejuízo para programas de pesquisas se estes levassem em conta somente o contexto de sala de aula para aprendizagem de professores (como aludem Freeman e Johnson no art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rogramas deveriam refletir sobre as diferentes formas de aprendizagem de acordo com os diferentes estágios dos profes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ram a necessidade de pesquisas longitudinais, que contemplem tanto o contexto social diferenciado como também, as maneiras como os novatos (preservice) e experientes (inservice) aprendem a ensinar língu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e)elaborando Programas de Formação de Professores de Língu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nde dificuldade que os autores encontraram na (re)elaboração de programas foi a escassez de pesquisas direcionadas diretamente à aprendizagem de profes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autores acreditam que pelo men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is tipos de programas de educação de professores L2 poderão ser descr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3141720"/>
            <a:ext cx="3672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ll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200400"/>
            <a:ext cx="3529080" cy="18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n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ll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500280"/>
            <a:ext cx="987480" cy="129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ademic Fall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enta a crença de que professores novatos/inexperientes podem se tornar em eficientes professores de L2 simplesmente frequentando cursos que ensinam como lecionar, aprender, a estrutura da língua e a desenvolver seus conhecimentos sobre o que é ensinar e aprender uma lín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man e Johnson lutam contra esta vertente ao afirmarem que “os professores não são vasos vazios esperando para serem cheios de teorias e habilidades pedagógic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Tarone e Alwright os maiores prejudicados são os “beginning teacher learners”    pois eles acham esses conteúdos descontextualizados, e acabam por acreditarem que o único lugar para aprender a ensinar é na sala de a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ninterface Fall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enta a crença de que os professores de língua só podem adquirir a habilidade de lecionar/ensinar línguas no contexto de sala de aula de línguas, ou seja, aprende-se fazendo (dando au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à teoria de Krashen (1982), uma aprendizagem consciente não tem muita relevância no processo de aquisição de uma L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autores sugerem um terceiro tipo de programa :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editam que aprendizes/professores de L2 precisam de uma aprendizagem consciente antes de adentrarem a sala de au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professores aprendizes experientes preferem se situarem na posição de interface, pois acreditam que a aprendizagem consciente influencia consideravelmente na performance do professor de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la 5:Conhecimentos Pedagógicos e Fundamentação Teórica na Formação de Profess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nguage Teacher Learning and Student Second Language Learning: Shaping the Knowledg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Tarone and Allwright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 dos autores a Freeman e John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m o risco de se situarem na Noninterface fallacy devido a seguinte f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ue locus of teacher learning lay in on-the-job initiation into the practices of teaching and not in the processes of professional teacher education.”(p.3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nsiderando a Complexidade da Classe dos Professores/Aprendiz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man e Johnson- sugerem a construção de pontes que sustentem uma maior interação entre teoria e prá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4495680"/>
            <a:ext cx="182880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648320"/>
            <a:ext cx="205740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12372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one e Allw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cam na centralidade do processo a heterogeinidade de professores/aprend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ma os três tipos de conhecimento: habilidades, conhecimento e compreensão/entendimento, em diferentes níveis para os diferentes  perfis de professores/aprend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-se encontrar resistência de mudança em Professores mais experientes, por isso eles têm que serem expostos a uma abordagem integrativa para convencê-los que precisam desenvolver suas estruturas de compreens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escentam ainda a diversidade individual do aprendiz (idade, sexo, inteligência, aptidão, motivação 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 de Tarone e Allw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criticam Freeman e Johnson por excluirem o aprendiz do esquema de reconceptu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rmam que o verb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sin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é um verbo intran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ção de professores de língua está primeiramente muito mais preocupado com os professores como aprendizes de   como ensinar, do que com alunos como aprendizes de língua.”(Freeman e John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mework for the knowledge base of language teacher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84120" y="1600200"/>
            <a:ext cx="657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e to Tarone and Allwrigh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e Freeman e Johns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not what I meant at all.That is not it, at all.” (T. S. Eliot’s J. Alfred Prufr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nico ponto em que eles concordam com Tarone e Allwright é que poucas pesquisas têm sido realizadas com pessoas que estão aprendendo a lecionar L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a primeira acusação: os programas não levam em consideração o que já se sabe sobre formação 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fess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até concordam que é uma afirmação baseada em suas experiências, e não em resultados de pesquisas e,  que portanto, acaba por se tonar um julg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argumentam que essa crença pode ser sustentada por vários estudos internacionais (Wilson, Floden,&amp; Ferrini-Mundy, 2001), apesar de não serem específicos às suas afirmações, mas os leva a acreditar que os programas precisam mud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gunda acusação: Não levam em consideração o contexto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acham a acusação mais interessante de discu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em que foram mau interpretados/l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ssa visão é um pouquinho diferente da d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s de LTE como são atualmente elaborados, geralmente não contemplam as escolas e o processo escolar como um contexto soci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ític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aprendizagem de profess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s ampliam os sentidos socia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LS              aspec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ocultu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ING                como o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cio-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981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876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cionar não é um verbo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transi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not what I meant at all. That is  not it,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les não levarem em consideração as pesquisas de SLA, que pelo contrário eles dão muito valor, pois são elas que ajudam a informar os trabalhos dos professores de língu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s afirmam que tudo é uma questão de ênfase no objeto a ser estu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a Resenha crítica ao artigo de Freeman and Johnson (1998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go: Reconceptualizing the Knowledge-Base of Teacher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se artigo eles comentam a necessidade de reconceituar  o conhecimento-base do professor de línguas. Essa necessidade recai sobre dois princípios que eles apontam contra a prática a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ard Linking Teacher Knowledge and Student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reeman and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texto tenta responder como o trabalho chamado TEACHING, as ações do professor, e o trabalho chamado LEARNING, as ações, no mais amplo sentido, dos alunos, se conect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o ensino/aprendizag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                        AL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hecimento                          apr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ções)                                         (açõ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posto da Eu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590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276720"/>
            <a:ext cx="16765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800600" y="327672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nsar e Refle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971800"/>
            <a:ext cx="2362320" cy="251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e o alu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nde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não aprende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e são capa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az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124080"/>
            <a:ext cx="2361960" cy="251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e o prof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3429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ÇÕ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fere-se ao que o indivíduo faz, neste caso, na sala de aula de lín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IV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ão é a soma de ações dos professores e alunos. É o todo, que é melhor que as partes individ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TRU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É alguma coisa usada para fazer um trabalho em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erentes formas de uso do retroprojetor, e cada uma sugeri uma atividade dife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geralmente uso o retro para apresentar informações aos alun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eu uso o retro, ele ajuda meus alunos a prestarem atenção no que é importante na liçã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frequentemente coloco os exercícios de casa dos alunos no retro. Então eles podem ver seus err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uso o retro para colher informações de meus alunos. Eu faço uma pergunta e logo escrevo no retro o que eles fala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743200"/>
            <a:ext cx="3886200" cy="297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2590920"/>
            <a:ext cx="3809880" cy="2895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2971800"/>
            <a:ext cx="1447920" cy="228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 n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9320" y="38466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çõe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o ENSINAR e APRENDER  se relacio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mente os autores apresentam 3 for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USAL/ CON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2.   CAUSALIDADE 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3.   RELAÇÃO  DE INFLU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/CON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nsinar           conduz             aprendiz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o al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IDADE    R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foco deixa de ser o que o professor faz e passa a ser o que passa na mente dele. E esse raciocínio pode ser moldado  ou causar seu desenvolvimento através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novas idéias e prática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reinamento        conduz              b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o professor                                  ens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ÇÃO DE INFLU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i dois elementos ausentes nas demais estruturas: Atividade e conceptual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ndizagem    influencia     maneira c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ssional                                   ensi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ia          aprendizagem dos alu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905120" y="4114800"/>
            <a:ext cx="4572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5257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dois Aspectos por Freeman and John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dores de programas de formação de professores de língua fracassam em não levarem em consideração o que já sabemos em geral sobre aprendizagem do professor/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s de formação de professores também fracassam ao não lidarem com o contexto social da escola e do processo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hoo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              classroom        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               activity            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     +       ACTIONS   =     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2057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quiring Knowledge of Discourse Convention in Teacher edu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Hedgecock (200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sos de educação de professores tradicionais: ler a literatura da área, fazer/completar projetos e acumular experiências pr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ção de professores orientada por esquemas reflexivos (como proposta):focar principalmente em habilidades práticas, enfatizar o conhecimento pedagógico e conscientização muito mais que conhecimento de maté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ção de professores baseado n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ocioliterate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bordag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ciolite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ducação de professores engaja muito mais os participantes em exames/reflexão, entendimentos, adoções, e até mesmo na transformação de discurso  dos professores de línguas e práticas textu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r com Consciência Cr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ia e conhecimento formal, os quais Bereiter e Scardamalia (1993) caracterizou como “’representada publicamente” e “negociável”, capacita os inexperientes a teorizar seus  conhecimentos implícitos, o conhecimento prático até que isso se torne “Conhecimento prático teoriza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mas estratégias para a leitura cr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r da leitura suas próprias perguntas sobre aprendizagem de línguas na 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tar uma postura crítica quando estiver lendo pesquisas da á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ar T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ar o que não está escr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ela Scar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spection and Retrospection as Windows on Teacher Knowledge, Values, and Ethical Dis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o de caso com uma professora de Francês como segunda língua, fazendo seus relatos introspectivos no momento de correção de exercícios de uma aluna de 11 anos (Ros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tivo do texto de Tarone e Allwrigh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sar mais detalhadamente essas duas acusações de Freeman e Johnson, e propor o que eles acham mais apropriado para a elaboração desses currículos de formação de professores como também para programas de pesqui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utores afirmam que ao fazerem isso, que eles correriam o risco de parecer que queira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na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texto de Freeman e John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one e Allwright criticam que Freeman e John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distingu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lear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Learning   Vs Teac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anguage              Secon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Learning                Teac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                                        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m que Freeman e John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valorizam ou não levam muito a sério as pesquisa SLA (Second Language Acquis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por outro lado, eles tiveram uma importante contribuição, ao chamarem a atenção para a grande quantidade de pesquisas relizadas sobre aprendizagem de professores em g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 contrário de Freeman e Johnson, Tarone e Allwrigh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em precisamente como essas pesquisas de SLA e de aprendizagem de professores em geral sustentam e dão suporte na aprendizagem de professores de L2 e na formação de professores de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s acreditam que professores de diferentes matérias/áreas aprendem coisas diferentes e de modo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as de Formação de Professores 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i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vi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86200" y="21333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3657600"/>
            <a:ext cx="1295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6:04:51Z</dcterms:created>
  <dc:creator>SELMA</dc:creator>
  <dc:description/>
  <dc:language>en-US</dc:language>
  <cp:lastModifiedBy>Polo</cp:lastModifiedBy>
  <dcterms:modified xsi:type="dcterms:W3CDTF">2010-05-04T19:53:3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